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198-B853-48E2-86E5-A5D10D0D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3C8-0611-41A1-B1F5-D2177F16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B5009-D3C0-408F-949F-F0E781E3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233C2-0B6F-4388-96D2-66B48904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643633-B243-49DB-81CB-320764EA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9CF784-E100-40D1-9B46-CFAC267E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BA549-35B3-449F-8D00-7902BC58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0DBDE-45D4-440E-9DFA-BD6F4E72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1F294-3340-49CC-BCAB-B8F2888A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0076B6-5FD0-4AED-99A9-CA44EC2EB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F37579-E405-4BE9-95C7-783B4D61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2E9C6-36CF-465F-96F5-4DE2ABB1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931-4618-46D5-A925-C5F31285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227AB1-7E14-4977-810F-0BFFAB8A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FD599F-64B6-4DE8-844A-3E5CE101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A6A0FC-50D9-47B4-BC8E-029585A4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9329B-AECF-4FE4-9BB6-9C8C34AD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4FFD2-5FCB-4EB8-8FE1-0C9AFA14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FE49BB-2E19-4C6F-AF7E-0F67A8DE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79B5AE-2163-485B-BA4A-8B05A6B8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2C6FD-F894-4DF0-AD5F-744310A8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52A1BB-6791-4841-8974-656F825B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928FA1-106F-4B32-9654-B44D308D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B78-A080-46B1-91F2-D1C1BFFE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745CF5-8CE3-45AC-A1A2-1831A2B6A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223B15-447F-44DB-9B8D-9D62E7FC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7D3C4A-0D21-4703-8BB1-6C58630F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3FA2B1-B482-439F-91EF-42E4370A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BDBBBD-B2BF-4FB0-9203-A0A9B750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3BDC43-84E8-4F8B-A4F5-ACF21C6F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6DB9472-789D-4994-BF0A-2BF97EDB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91D2DA-5F6F-4131-9FB4-38B7121B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3BEB2A-5822-4514-A9F9-06F7EB46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647121-D63B-4A01-91E8-118F96C5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31EA-199C-4299-BDAB-E3C3EB9A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72079F-56CD-41C9-A8A8-C5BC941F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8D91BC-BB4E-4E13-8D92-99F6C7DD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645E19-3C85-46B7-9D2F-D8914516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55F7-B396-4AAA-BC82-7D96CC6B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42B1-3868-4095-AE6C-008D001B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AE9B-3473-4236-9595-EF9B8CB9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2574-33B2-4F88-B280-CC7F3350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83E8-E96E-452F-95DA-D8EDF176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1832-F0E4-4691-A7F0-FFB33489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093-9BD1-4675-B0F6-4085A758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00EE-DB46-4212-A2DA-FDC20CE5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B689-B154-4AF0-84D6-48F9C908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57F6-B6C1-4AD3-AC77-D6788089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5EFA-A34F-44AB-814D-A181FD203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2816-0AAC-4479-900C-13CEE509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A9368-A616-401A-92F7-D89C1FAF0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7267C-54BF-49A0-9487-55B3C551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FAE1-242A-4ED6-B121-CE5B187A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121E-EF59-4ADD-867B-AD77818B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497D-9E11-4EB7-83CA-61AB37B2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9D0-76E8-4E7E-ACC0-5F023153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E23F3-95B8-4EBB-86BD-E14E4F00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BCD11-F482-4DE7-A929-C6B4935A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887BD-A425-4760-97D4-7CF44890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8145-94D8-40AE-9523-0DE404A6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494CB-35CA-426D-9F77-434D2AE0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8DF1-F4A5-4ADB-8AB1-ED2B5728B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AC533-E14B-4EFB-A7FC-32FCB7D7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BC987-BC5F-4F01-8C19-724333EC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25AA4-3EB0-4EB6-8C85-827C7F09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9C042-15D6-410D-BD55-62D932CB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9F2-FD87-48D6-81B5-DADFB79B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364D4-B291-419E-9D68-D9430C42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E853-CDFF-44E9-94DF-727254C8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2B15-F6C8-4A11-9046-A3600F36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1EA77-999B-4B30-8B5E-74B357D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04D58-CBB8-4B26-8CDD-9761FE21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439C-A206-4D71-83EB-AD0FD72D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A6616-214B-47DA-8772-08B20B3A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EB68-70E5-45B1-9945-78217FD56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E2F64-FB27-4F78-BDDD-57524313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83197-26D4-4D2C-A850-0615905F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0039-4649-4B2B-8A4E-FCBB7D7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D299E-896B-4B6C-9F42-7B9B927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87F7-54F0-4E24-BD10-5FD0B41A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FF33-F72A-4F26-9850-58FB78E6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5C6DF-3206-4FC2-9A92-7CCFEDA7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DD7EF-CD31-437C-80A0-69FC4CF0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3DF11-7D15-45C9-A353-0E9F3F0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DB324-4908-4085-92B6-E2CA0902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0CBEA-785D-45C6-A15D-3C0C333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75E97-C7D8-481A-BAC1-5FDEC516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2C388-2F0D-41FA-820C-05334950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B035-0946-44C1-9CAA-41E2318D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94D94-7274-4E6C-94E2-9E7D26C5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D900-E94E-4456-A5B6-3AF9595E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24DEA-9181-4AEA-8CA2-6C8E8941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A1D46-DDE9-443E-9512-CA871A1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F233E-94B2-4027-8E3A-05D6892D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80022-0BC2-4323-B518-80F99971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45C1A-3284-4EF3-9DA6-CE101F57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7FB34-D1AA-42B0-85F6-B72DD871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9C390-3231-470B-B952-1EF4A29C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CE5F4-0FCF-45AD-A009-84C250EC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8A0-A4EA-4D50-A955-596535DC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C6955-3FA6-4FDB-8126-769A3651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50A41-0233-4002-86BA-F26AAD1D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22952-BC2A-4179-A65F-963998DC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2288-7150-4CC6-B74D-8ED094A2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C9F9A-F1B7-4FA5-ACB5-8530D228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57FAE-70FE-4C72-9B47-2AF05695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C6C47-1601-4FAB-982F-12CCD379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DBB53-AE53-439D-95A8-312A8BC9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7E120-23B8-461E-B1D7-1C25D360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2EB7C-D9D5-41A6-829B-9CE2F56F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79F-E46B-4CC2-99C5-64A6644B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CA3F3-DFF4-42E7-B396-62FA82A8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CBCDB-46BF-4C44-9A02-DF574F7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4880E-994A-4FBF-8ABA-A45D8BA1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DAD83-2ED9-41E3-B9C3-CC80B931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FA20F-D097-4E2A-8F86-E487D6FC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588BF-9FCC-4FBC-A7E2-B5A9BA11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E3D04-8B93-4217-8EC5-3EE67F88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0E70B-87DA-407C-88A1-60E129ED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DD592-DF71-40EF-94B1-D092AF43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4E89A-DE56-4CEF-8584-0826CF9C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42C1-D17D-426F-9D2D-7DEEC3D0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9C021-EE2F-4B06-9E76-71BFA22B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2943A-520A-4EB3-914E-3951C86B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13FDE-46D3-4DE5-8E73-0685C500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2273A-429C-4DB5-9192-9CC1FD6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5783F-186D-4458-9467-FF62240A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0A49D-2D71-47A6-B36E-DDD82971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FE1BC-0194-4FBA-B1A1-C5900D5D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FDB5CF-7015-4C2B-ABA0-12BD3703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BFD401-FBE7-4EEE-B16E-2AC24735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5BC46-5FAF-4224-88CE-92AD30E8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drep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E819-E9C8-4AD4-8654-D0CB979DC80E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Conector drept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Dreptunghi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Dreptunghi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reptunghi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Dreptunghi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Dreptunghi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reptunghi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Dreptunghi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8CAE-4A9C-41B4-BBAB-6ABB8C496B5F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reptunghi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Dreptunghi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Dreptunghi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reptunghi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reptunghi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reptunghi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Conector drept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31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3B53-6592-4B39-A544-6BC8801C6E9A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dt" idx="3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3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reptunghi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reptunghi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reptunghi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reptunghi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drept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65EA-C593-4B13-869F-F9DB3BDC7878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reptunghi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reptunghi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reptunghi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reptunghi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reptunghi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drep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FAE-1064-4589-A55A-58ED50BF04E2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reptunghi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reptunghi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reptunghi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reptunghi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reptunghi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drept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1CF8-2721-4863-B733-84E5458E3EAA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reptunghi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reptunghi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reptunghi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reptunghi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reptunghi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ector drep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ector drept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4B23-F97C-483C-B570-CA014E98D4E7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onector drept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6465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Dreptunghi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Dreptunghi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Dreptunghi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Dreptunghi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reptunghi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reptunghi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drept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reptunghi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B91B-F19B-42E2-912C-4230406CBD3B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Dreptunghi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reptunghi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reptunghi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Dreptunghi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Dreptunghi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Dreptunghi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ector drept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A203-32AC-475E-B55E-411975D1B234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reptunghi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Dreptunghi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reptunghi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reptunghi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reptunghi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reptunghi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0C0B-7357-4BA1-B84A-C70FF6397BD2}" type="slidenum">
              <a:rPr b="0" lang="ro-RO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Dreptunghi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Dreptunghi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Dreptunghi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Dreptunghi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Dreptunghi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Dreptunghi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Dreptunghi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ector drept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b9c06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b9c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Dreptunghi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d2d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b8c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d2da7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ada7a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b8847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5F61-8EFA-4223-9221-2F651BE9BD80}" type="slidenum">
              <a:rPr b="0" lang="ro-RO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2428920" y="450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64653"/>
              </a:solidFill>
              <a:latin typeface="Georg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200" spc="-1" strike="noStrike">
                <a:solidFill>
                  <a:srgbClr val="ff0000"/>
                </a:solidFill>
                <a:latin typeface="Georgia"/>
              </a:rPr>
              <a:t>Să  mâncăm sănătos !</a:t>
            </a:r>
            <a:br>
              <a:rPr sz="4200"/>
            </a:br>
            <a:endParaRPr b="0" lang="en-US" sz="4200" spc="-1" strike="noStrike">
              <a:solidFill>
                <a:srgbClr val="b9c06b"/>
              </a:solidFill>
              <a:latin typeface="Georgia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ro-RO" sz="3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lang="ro-RO" sz="3000" spc="-1" strike="noStrike">
                <a:solidFill>
                  <a:srgbClr val="7030a0"/>
                </a:solidFill>
                <a:latin typeface="Georgia"/>
              </a:rPr>
              <a:t>Cele 7 alegeri pentru o alimentaţie sănătoasă  :</a:t>
            </a:r>
            <a:endParaRPr b="0" lang="en-US" sz="3000" spc="-1" strike="noStrike">
              <a:solidFill>
                <a:srgbClr val="b9c06b"/>
              </a:solidFill>
              <a:latin typeface="Georgia"/>
            </a:endParaRPr>
          </a:p>
        </p:txBody>
      </p:sp>
      <p:sp>
        <p:nvSpPr>
          <p:cNvPr id="559" name="Dreptunghi 4"/>
          <p:cNvSpPr/>
          <p:nvPr/>
        </p:nvSpPr>
        <p:spPr>
          <a:xfrm>
            <a:off x="571680" y="1643040"/>
            <a:ext cx="792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0000"/>
                </a:solidFill>
                <a:latin typeface="Georgia"/>
              </a:rPr>
              <a:t>1. Leguminoase- fructe şi legume – peste 50 % din alimentaţ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Dreptunghi 5"/>
          <p:cNvSpPr/>
          <p:nvPr/>
        </p:nvSpPr>
        <p:spPr>
          <a:xfrm>
            <a:off x="785880" y="2286000"/>
            <a:ext cx="38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onsumul zilnic de fructe şi legume previne apariţia multor boli precum diabetul, bolile de inimă, mai multe tipuri de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Imagine 6" descr="1dd15797b8196430.jpg"/>
          <p:cNvPicPr/>
          <p:nvPr/>
        </p:nvPicPr>
        <p:blipFill>
          <a:blip r:embed="rId1"/>
          <a:stretch/>
        </p:blipFill>
        <p:spPr>
          <a:xfrm>
            <a:off x="857160" y="4429080"/>
            <a:ext cx="1928880" cy="1562040"/>
          </a:xfrm>
          <a:prstGeom prst="rect">
            <a:avLst/>
          </a:prstGeom>
          <a:ln w="0">
            <a:noFill/>
          </a:ln>
        </p:spPr>
      </p:pic>
      <p:pic>
        <p:nvPicPr>
          <p:cNvPr id="562" name="Imagine 8" descr="31af50c0177e4f00.jpg"/>
          <p:cNvPicPr/>
          <p:nvPr/>
        </p:nvPicPr>
        <p:blipFill>
          <a:blip r:embed="rId2"/>
          <a:stretch/>
        </p:blipFill>
        <p:spPr>
          <a:xfrm>
            <a:off x="5500800" y="2214720"/>
            <a:ext cx="2000160" cy="1800000"/>
          </a:xfrm>
          <a:prstGeom prst="rect">
            <a:avLst/>
          </a:prstGeom>
          <a:ln w="0">
            <a:noFill/>
          </a:ln>
        </p:spPr>
      </p:pic>
      <p:pic>
        <p:nvPicPr>
          <p:cNvPr id="563" name="Imagine 9" descr="865c4915f9438424.jpg"/>
          <p:cNvPicPr/>
          <p:nvPr/>
        </p:nvPicPr>
        <p:blipFill>
          <a:blip r:embed="rId3"/>
          <a:stretch/>
        </p:blipFill>
        <p:spPr>
          <a:xfrm>
            <a:off x="3000240" y="4500720"/>
            <a:ext cx="2175120" cy="1428480"/>
          </a:xfrm>
          <a:prstGeom prst="rect">
            <a:avLst/>
          </a:prstGeom>
          <a:ln w="0">
            <a:noFill/>
          </a:ln>
        </p:spPr>
      </p:pic>
      <p:pic>
        <p:nvPicPr>
          <p:cNvPr id="564" name="Imagine 10" descr="13cbe4575d41bc08.jpg"/>
          <p:cNvPicPr/>
          <p:nvPr/>
        </p:nvPicPr>
        <p:blipFill>
          <a:blip r:embed="rId4"/>
          <a:stretch/>
        </p:blipFill>
        <p:spPr>
          <a:xfrm>
            <a:off x="5643720" y="4429080"/>
            <a:ext cx="1928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0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320"/>
                            </p:stCondLst>
                            <p:childTnLst>
                              <p:par>
                                <p:cTn id="32" nodeType="afterEffect" fill="hold" presetClass="entr" presetID="2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32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reptunghi 5"/>
          <p:cNvSpPr/>
          <p:nvPr/>
        </p:nvSpPr>
        <p:spPr>
          <a:xfrm>
            <a:off x="285840" y="28584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2. Mai multe alimente pe bază de cereale integ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Dreptunghi 6"/>
          <p:cNvSpPr/>
          <p:nvPr/>
        </p:nvSpPr>
        <p:spPr>
          <a:xfrm>
            <a:off x="714240" y="1500120"/>
            <a:ext cx="6572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Fibrele alimentare sunt acele părţi ale alimentelor de origine vegetală care nu pot fi absorbite sau digerate de organism, dar ajută la tranzitul intesti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Georgia"/>
              </a:rPr>
              <a:t>Cerealele integrale, în afară de fibre, conţin şi nutrienţi importanţi : riboflavină, magneziu, fosfor, fier, zinc, proteine şi grăsimi benef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Imagine 7" descr="b04b3c5dd222fef2.jpg"/>
          <p:cNvPicPr/>
          <p:nvPr/>
        </p:nvPicPr>
        <p:blipFill>
          <a:blip r:embed="rId1"/>
          <a:stretch/>
        </p:blipFill>
        <p:spPr>
          <a:xfrm>
            <a:off x="3500280" y="4214880"/>
            <a:ext cx="2214720" cy="1714320"/>
          </a:xfrm>
          <a:prstGeom prst="rect">
            <a:avLst/>
          </a:prstGeom>
          <a:ln w="0">
            <a:noFill/>
          </a:ln>
        </p:spPr>
      </p:pic>
      <p:pic>
        <p:nvPicPr>
          <p:cNvPr id="568" name="Imagine 8" descr="a4d76658aa6a1df6.jpg"/>
          <p:cNvPicPr/>
          <p:nvPr/>
        </p:nvPicPr>
        <p:blipFill>
          <a:blip r:embed="rId2"/>
          <a:stretch/>
        </p:blipFill>
        <p:spPr>
          <a:xfrm>
            <a:off x="6286680" y="4143240"/>
            <a:ext cx="2500200" cy="1857600"/>
          </a:xfrm>
          <a:prstGeom prst="rect">
            <a:avLst/>
          </a:prstGeom>
          <a:ln w="0">
            <a:noFill/>
          </a:ln>
        </p:spPr>
      </p:pic>
      <p:pic>
        <p:nvPicPr>
          <p:cNvPr id="569" name="Imagine 9" descr="wholegrain_promo.jpg"/>
          <p:cNvPicPr/>
          <p:nvPr/>
        </p:nvPicPr>
        <p:blipFill>
          <a:blip r:embed="rId3"/>
          <a:stretch/>
        </p:blipFill>
        <p:spPr>
          <a:xfrm>
            <a:off x="642960" y="421488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9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3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77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Dreptunghi 3"/>
          <p:cNvSpPr/>
          <p:nvPr/>
        </p:nvSpPr>
        <p:spPr>
          <a:xfrm>
            <a:off x="205920" y="285840"/>
            <a:ext cx="51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3. Mai multe grăsimi bene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Dreptunghi 4"/>
          <p:cNvSpPr/>
          <p:nvPr/>
        </p:nvSpPr>
        <p:spPr>
          <a:xfrm>
            <a:off x="357120" y="1571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Georgia"/>
              </a:rPr>
              <a:t>Grăsimi  dăunătoare : </a:t>
            </a: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grăsimea de porc, vită, oaie, precum şi grăsimi create artificial (din margarin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Dreptunghi 5"/>
          <p:cNvSpPr/>
          <p:nvPr/>
        </p:nvSpPr>
        <p:spPr>
          <a:xfrm>
            <a:off x="384480" y="27147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7030a0"/>
                </a:solidFill>
                <a:latin typeface="Georgia"/>
              </a:rPr>
              <a:t>Grăsimi benefic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Dreptunghi 6"/>
          <p:cNvSpPr/>
          <p:nvPr/>
        </p:nvSpPr>
        <p:spPr>
          <a:xfrm>
            <a:off x="3000240" y="228600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6600"/>
                </a:solidFill>
                <a:latin typeface="Georgia"/>
              </a:rPr>
              <a:t>Acizi graşi omega-3 </a:t>
            </a: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: peşte, nuci, ulei de măsline, arahide, migd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Dreptunghi 7"/>
          <p:cNvSpPr/>
          <p:nvPr/>
        </p:nvSpPr>
        <p:spPr>
          <a:xfrm>
            <a:off x="3071880" y="4286160"/>
            <a:ext cx="535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6600"/>
                </a:solidFill>
                <a:latin typeface="Georgia"/>
              </a:rPr>
              <a:t>Acizi graşi omega-6 </a:t>
            </a: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: ulei de porumb, soia, floarea soarelu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Conector drept cu săgeată 9"/>
          <p:cNvCxnSpPr/>
          <p:nvPr/>
        </p:nvCxnSpPr>
        <p:spPr>
          <a:xfrm flipV="1">
            <a:off x="2571480" y="2642760"/>
            <a:ext cx="500760" cy="2152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576" name="Conector drept cu săgeată 11"/>
          <p:cNvCxnSpPr/>
          <p:nvPr/>
        </p:nvCxnSpPr>
        <p:spPr>
          <a:xfrm>
            <a:off x="2500200" y="3000240"/>
            <a:ext cx="643320" cy="12866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pic>
        <p:nvPicPr>
          <p:cNvPr id="577" name="Imagine 15" descr="00ad40fd030f1652.jpg"/>
          <p:cNvPicPr/>
          <p:nvPr/>
        </p:nvPicPr>
        <p:blipFill>
          <a:blip r:embed="rId1"/>
          <a:stretch/>
        </p:blipFill>
        <p:spPr>
          <a:xfrm>
            <a:off x="3500280" y="3000240"/>
            <a:ext cx="1152720" cy="1238400"/>
          </a:xfrm>
          <a:prstGeom prst="rect">
            <a:avLst/>
          </a:prstGeom>
          <a:ln w="0">
            <a:noFill/>
          </a:ln>
        </p:spPr>
      </p:pic>
      <p:pic>
        <p:nvPicPr>
          <p:cNvPr id="578" name="Imagine 16" descr="19cafecee7da84e4.jpg"/>
          <p:cNvPicPr/>
          <p:nvPr/>
        </p:nvPicPr>
        <p:blipFill>
          <a:blip r:embed="rId2"/>
          <a:stretch/>
        </p:blipFill>
        <p:spPr>
          <a:xfrm>
            <a:off x="5500800" y="4929120"/>
            <a:ext cx="1285920" cy="938160"/>
          </a:xfrm>
          <a:prstGeom prst="rect">
            <a:avLst/>
          </a:prstGeom>
          <a:ln w="0">
            <a:noFill/>
          </a:ln>
        </p:spPr>
      </p:pic>
      <p:pic>
        <p:nvPicPr>
          <p:cNvPr id="579" name="Imagine 17" descr="a424ddded0146c00.jpg"/>
          <p:cNvPicPr/>
          <p:nvPr/>
        </p:nvPicPr>
        <p:blipFill>
          <a:blip r:embed="rId3"/>
          <a:stretch/>
        </p:blipFill>
        <p:spPr>
          <a:xfrm>
            <a:off x="7286760" y="4857840"/>
            <a:ext cx="904680" cy="1000080"/>
          </a:xfrm>
          <a:prstGeom prst="rect">
            <a:avLst/>
          </a:prstGeom>
          <a:ln w="0">
            <a:noFill/>
          </a:ln>
        </p:spPr>
      </p:pic>
      <p:pic>
        <p:nvPicPr>
          <p:cNvPr id="580" name="Imagine 18" descr="Ulei_de_Peste.png"/>
          <p:cNvPicPr/>
          <p:nvPr/>
        </p:nvPicPr>
        <p:blipFill>
          <a:blip r:embed="rId4"/>
          <a:stretch/>
        </p:blipFill>
        <p:spPr>
          <a:xfrm>
            <a:off x="5715000" y="3048120"/>
            <a:ext cx="1714680" cy="1144440"/>
          </a:xfrm>
          <a:prstGeom prst="rect">
            <a:avLst/>
          </a:prstGeom>
          <a:ln w="0">
            <a:noFill/>
          </a:ln>
        </p:spPr>
      </p:pic>
      <p:sp>
        <p:nvSpPr>
          <p:cNvPr id="581" name="Dreptunghi 19"/>
          <p:cNvSpPr/>
          <p:nvPr/>
        </p:nvSpPr>
        <p:spPr>
          <a:xfrm>
            <a:off x="421560" y="592920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6600"/>
                </a:solidFill>
                <a:latin typeface="Georgia"/>
              </a:rPr>
              <a:t>Acizii graşi omega-3 sunt cei mai indicaţ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8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5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2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reptunghi 3"/>
          <p:cNvSpPr/>
          <p:nvPr/>
        </p:nvSpPr>
        <p:spPr>
          <a:xfrm>
            <a:off x="258480" y="35712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0000"/>
                </a:solidFill>
                <a:latin typeface="Georgia"/>
              </a:rPr>
              <a:t>4. Un plus de alimente bogate în calci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Dreptunghi 4"/>
          <p:cNvSpPr/>
          <p:nvPr/>
        </p:nvSpPr>
        <p:spPr>
          <a:xfrm>
            <a:off x="428760" y="1500120"/>
            <a:ext cx="45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6600"/>
                </a:solidFill>
                <a:latin typeface="Georgia"/>
              </a:rPr>
              <a:t>Importanţa calciulu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99 % din calciu asigură dezvoltarea şi robusteţea oase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Reduce tensiunea arterial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Păstrează  flexibilitatea arterel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Sprijină rinichii sa elimine sodiu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Protejează împotriva pierderelor de memo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Imagine 5" descr="72b5dc210d3bc5bc.jpg"/>
          <p:cNvPicPr/>
          <p:nvPr/>
        </p:nvPicPr>
        <p:blipFill>
          <a:blip r:embed="rId1"/>
          <a:stretch/>
        </p:blipFill>
        <p:spPr>
          <a:xfrm>
            <a:off x="5572080" y="3929040"/>
            <a:ext cx="2571840" cy="1919160"/>
          </a:xfrm>
          <a:prstGeom prst="rect">
            <a:avLst/>
          </a:prstGeom>
          <a:ln w="0">
            <a:noFill/>
          </a:ln>
        </p:spPr>
      </p:pic>
      <p:pic>
        <p:nvPicPr>
          <p:cNvPr id="585" name="Imagine 6" descr="dcf2a8ea96255358.jpg"/>
          <p:cNvPicPr/>
          <p:nvPr/>
        </p:nvPicPr>
        <p:blipFill>
          <a:blip r:embed="rId2"/>
          <a:stretch/>
        </p:blipFill>
        <p:spPr>
          <a:xfrm>
            <a:off x="5929200" y="1357200"/>
            <a:ext cx="1571760" cy="2347920"/>
          </a:xfrm>
          <a:prstGeom prst="rect">
            <a:avLst/>
          </a:prstGeom>
          <a:ln w="0">
            <a:noFill/>
          </a:ln>
        </p:spPr>
      </p:pic>
      <p:pic>
        <p:nvPicPr>
          <p:cNvPr id="586" name="Imagine 7" descr="4094ac7542fccdc2.jpg"/>
          <p:cNvPicPr/>
          <p:nvPr/>
        </p:nvPicPr>
        <p:blipFill>
          <a:blip r:embed="rId3"/>
          <a:stretch/>
        </p:blipFill>
        <p:spPr>
          <a:xfrm>
            <a:off x="1143000" y="4000680"/>
            <a:ext cx="22860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900" fill="hold"/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9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500"/>
                            </p:stCondLst>
                            <p:childTnLst>
                              <p:par>
                                <p:cTn id="21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223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reptunghi 3"/>
          <p:cNvSpPr/>
          <p:nvPr/>
        </p:nvSpPr>
        <p:spPr>
          <a:xfrm>
            <a:off x="428760" y="5000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Georgia"/>
              </a:rPr>
              <a:t>5.  Mai multe proteine sla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Dreptunghi 4"/>
          <p:cNvSpPr/>
          <p:nvPr/>
        </p:nvSpPr>
        <p:spPr>
          <a:xfrm>
            <a:off x="285840" y="1500120"/>
            <a:ext cx="8358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Georgia"/>
              </a:rPr>
              <a:t>Proteinele reprezintă elementele constructive ale organismului, folosite la „ fabricarea” tuturor structurilor sale – de la muşchi, oase si ţesuturile organelor interne şi până la hormoni, enzime şi globule roş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Dreptunghi 5"/>
          <p:cNvSpPr/>
          <p:nvPr/>
        </p:nvSpPr>
        <p:spPr>
          <a:xfrm>
            <a:off x="642960" y="2786040"/>
            <a:ext cx="2928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P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Cur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Georgia"/>
              </a:rPr>
              <a:t>Carne slabă de vi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Imagine 6" descr="34d9630cdd77f370.jpg"/>
          <p:cNvPicPr/>
          <p:nvPr/>
        </p:nvPicPr>
        <p:blipFill>
          <a:blip r:embed="rId1"/>
          <a:stretch/>
        </p:blipFill>
        <p:spPr>
          <a:xfrm>
            <a:off x="2071800" y="3571920"/>
            <a:ext cx="1938240" cy="1357200"/>
          </a:xfrm>
          <a:prstGeom prst="rect">
            <a:avLst/>
          </a:prstGeom>
          <a:ln w="0">
            <a:noFill/>
          </a:ln>
        </p:spPr>
      </p:pic>
      <p:pic>
        <p:nvPicPr>
          <p:cNvPr id="591" name="Imagine 7" descr="b2ab9d408697c750.jpg"/>
          <p:cNvPicPr/>
          <p:nvPr/>
        </p:nvPicPr>
        <p:blipFill>
          <a:blip r:embed="rId2"/>
          <a:stretch/>
        </p:blipFill>
        <p:spPr>
          <a:xfrm>
            <a:off x="4500720" y="4572000"/>
            <a:ext cx="1857240" cy="1382760"/>
          </a:xfrm>
          <a:prstGeom prst="rect">
            <a:avLst/>
          </a:prstGeom>
          <a:ln w="0">
            <a:noFill/>
          </a:ln>
        </p:spPr>
      </p:pic>
      <p:pic>
        <p:nvPicPr>
          <p:cNvPr id="592" name="Imagine 8" descr="e3c4c65016186e5c.jpg"/>
          <p:cNvPicPr/>
          <p:nvPr/>
        </p:nvPicPr>
        <p:blipFill>
          <a:blip r:embed="rId3"/>
          <a:stretch/>
        </p:blipFill>
        <p:spPr>
          <a:xfrm>
            <a:off x="4429080" y="2714760"/>
            <a:ext cx="18576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9,0,-4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1,-72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-54,-110,-7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9400"/>
                            </p:stCondLst>
                            <p:childTnLst>
                              <p:par>
                                <p:cTn id="252" nodeType="afterEffect" fill="hold" presetClass="entr" presetID="37">
                                  <p:stCondLst>
                                    <p:cond delay="30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9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9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9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300"/>
                            </p:stCondLst>
                            <p:childTnLst>
                              <p:par>
                                <p:cTn id="275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"/>
          <p:cNvSpPr/>
          <p:nvPr/>
        </p:nvSpPr>
        <p:spPr>
          <a:xfrm>
            <a:off x="428760" y="43020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6. Mai puţine calor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Dreptunghi 5"/>
          <p:cNvSpPr/>
          <p:nvPr/>
        </p:nvSpPr>
        <p:spPr>
          <a:xfrm>
            <a:off x="642960" y="164304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utem  să   mâncăm suficient de mult  şi în acelaşi timp cu puţine calorii. Aceasta dacă respectăm câteva regul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sumăm mai multe legume şi fructe decât car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În loc să prăjim carnea în grăsimi o fierbem sau o preparam la grăt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 loc de deserturi cu multe calorii putem alege o salată de fructe proaspe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ă nu treacă un interval prea mare între me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Imagine 6" descr="7960e908ed326c7a.jpg"/>
          <p:cNvPicPr/>
          <p:nvPr/>
        </p:nvPicPr>
        <p:blipFill>
          <a:blip r:embed="rId1"/>
          <a:stretch/>
        </p:blipFill>
        <p:spPr>
          <a:xfrm>
            <a:off x="5643720" y="1643040"/>
            <a:ext cx="2357280" cy="1763640"/>
          </a:xfrm>
          <a:prstGeom prst="rect">
            <a:avLst/>
          </a:prstGeom>
          <a:ln w="0">
            <a:noFill/>
          </a:ln>
        </p:spPr>
      </p:pic>
      <p:pic>
        <p:nvPicPr>
          <p:cNvPr id="596" name="Imagine 7" descr="f0ad47699c7903c4.jpg"/>
          <p:cNvPicPr/>
          <p:nvPr/>
        </p:nvPicPr>
        <p:blipFill>
          <a:blip r:embed="rId2"/>
          <a:stretch/>
        </p:blipFill>
        <p:spPr>
          <a:xfrm>
            <a:off x="5429160" y="3929040"/>
            <a:ext cx="32148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9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3500"/>
                            </p:stCondLst>
                            <p:childTnLst>
                              <p:par>
                                <p:cTn id="3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"/>
          <p:cNvSpPr/>
          <p:nvPr/>
        </p:nvSpPr>
        <p:spPr>
          <a:xfrm>
            <a:off x="357120" y="501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00"/>
                </a:solidFill>
                <a:latin typeface="Calibri"/>
                <a:ea typeface="Calibri"/>
              </a:rPr>
              <a:t>7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âncaţi cu plăcere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357120" y="16545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ucuraţi-vă de varietatea culorilor şi texturilor alimentelor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âncaţi fără să vă grăbiţ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nsumaţi multe lichide sănătoas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Imagine 6" descr="142839e8b994bb32.jpg"/>
          <p:cNvPicPr/>
          <p:nvPr/>
        </p:nvPicPr>
        <p:blipFill>
          <a:blip r:embed="rId1"/>
          <a:stretch/>
        </p:blipFill>
        <p:spPr>
          <a:xfrm>
            <a:off x="2714760" y="4000680"/>
            <a:ext cx="29289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5:53:51Z</dcterms:created>
  <dc:creator>user</dc:creator>
  <dc:description/>
  <dc:language>en-US</dc:language>
  <cp:lastModifiedBy>User</cp:lastModifiedBy>
  <dcterms:modified xsi:type="dcterms:W3CDTF">2012-05-20T17:18:54Z</dcterms:modified>
  <cp:revision>16</cp:revision>
  <dc:subject/>
  <dc:title>Să  mâncăm sănătos !</dc:title>
</cp:coreProperties>
</file>